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F53B-93C7-41B7-BBA2-B69E30779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DC8B-A4B3-44B8-AE67-1042B8958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BBA-46A6-4D99-9769-12C1D8E6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7E9-A336-4970-8A09-844B7123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DE4-886F-4E6B-8BDA-EFA5BED4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A60-CC1D-45FB-9943-E69155E5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2464B-7131-4564-BA05-CA96CAF9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DB43B-0C4D-4D46-9F76-0FC741D8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7E141-DECF-4CAC-A1A2-B8804A37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C31F1-C4DC-49D6-A51A-54E1DA23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EC6DA-63F8-4FB2-8EDD-C31EEA3B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4B280-52FE-4CA6-B163-B3AC9DBE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89B53-353C-4A32-AA68-6A5A2488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4A1F-FFC4-4D69-B20F-E83F0339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60B28-833A-46FE-9AA3-E06552CE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7B391-B52D-4F32-9F59-E141E369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35F72-E320-4DEB-88B6-21BC0143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5B165-38D1-4F63-9BFD-22A1864C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B33F2-9DF5-4B41-AE3D-FFAC97AF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C87A3-3609-4689-9FCC-1E4C9E0A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863FE-6A3F-451F-9C5F-7B8D6AAA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9F089-2242-4F1D-9C85-545AE0B4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BB1D0-D78C-4A29-BD3F-C44A7F18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86128-BE88-42EF-9493-A5C2F517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DB9-9EF0-4B57-8543-7F7913C8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B7479-B689-4647-8B31-939B50F6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00DB1-D3F7-4342-B22F-B0BE1226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B336B-1CE3-4B51-89A7-E7FD8977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6261C-B936-4876-B1E1-1FE2B9E7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FA756-9599-4E42-A479-69B22546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5F931-DC4B-44A2-9D50-93136935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F3E1F-D046-476F-9273-A2343214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B73FA5-E7D8-42D8-83B1-077909BC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33A384-FF3E-476E-9D49-D0AFDD48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774CA-EC06-4017-8CD3-91351793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80F4-0C5B-453A-896D-6021BB61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D50E95-A3C1-45B4-A572-4E9B9DC6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B913CE-C0DA-4BB1-A569-C5EA5022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4F52DC-2DCD-47D9-A67D-701F042D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2C39FC-DA24-4AA2-8947-586CA93D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055548-2A33-4F0F-A0A7-E8153B09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30932C-F9AC-46AB-B57E-97D060D6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A02FB5-0967-4450-B655-ED8C87CC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2ACD59-D539-4E3D-A7CE-7CB54E35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3916B8-2BD8-4ED0-9260-09688268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2BA-8F75-4FD2-8819-C2956B24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5F8-02A3-4F8B-A364-E7DE7F6A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D9A-EB89-4D54-AE08-5B23ADFA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EB3-2FB2-4AD4-BFA3-0F11E688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1E9-13F7-45E1-AC1C-A54F6AC8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A0E9-FAF1-4D83-9C9B-F5E4AB17ED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D41E-BA95-4F25-9F13-07B62CF5A2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642B-16FE-4D26-B009-3926050FF01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8f6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c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4e2d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2F87-2687-4B92-9150-A85CD2546D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857840" cy="33116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E 397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roup Charli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iya Chetty, Scott Morgan, Brian Mottel, Daniyal Qamar, Sukhjinder Sing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entor: Dennis O’ Brie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r. Jeffery Per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Flow Sheet (cont.)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pic>
        <p:nvPicPr>
          <p:cNvPr id="219" name="Picture 3" descr="C:\Users\pd\Desktop\flow.jpg"/>
          <p:cNvPicPr/>
          <p:nvPr/>
        </p:nvPicPr>
        <p:blipFill>
          <a:blip r:embed="rId1"/>
          <a:stretch/>
        </p:blipFill>
        <p:spPr>
          <a:xfrm>
            <a:off x="152280" y="1405080"/>
            <a:ext cx="869652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Energy Sinks &amp; Loads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774360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Equipment Sizing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685800" y="1447920"/>
            <a:ext cx="7848720" cy="62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ctor size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HSV = volume feed/volume of reacto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lume of reactor with 3000 GHSV = 43 ft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an Residence time = 1.19 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ash Drum Size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max = k[(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 ρ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/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 ρ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]^0.5 = 1.4 ft/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 for 600 psi = 0.3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l flow = 2.86 ft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tal Volume calculated = 3500 ft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at Exchanger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=Q/U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l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 U value of 250 BTU/F Ft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, an average for evaporators and heater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= 6681 ft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0" y="0"/>
          <a:ext cx="9144000" cy="6400800"/>
        </p:xfrm>
        <a:graphic>
          <a:graphicData uri="http://schemas.openxmlformats.org/drawingml/2006/table">
            <a:tbl>
              <a:tblPr/>
              <a:tblGrid>
                <a:gridCol w="1674720"/>
                <a:gridCol w="2295720"/>
                <a:gridCol w="1379520"/>
                <a:gridCol w="2168280"/>
                <a:gridCol w="1625760"/>
              </a:tblGrid>
              <a:tr h="6426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xed Capit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able 1.1: Cost of specific units in the plant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t 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se Cost / un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. of Uni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Co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parato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LASHV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lash un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,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8,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tillation t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14,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514,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T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tillation t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954,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,954,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PL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pli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8,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08,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m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losion proof chemical pu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,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0,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M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losion proof chemical pu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8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eat exchan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X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eat exchan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44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,44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r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TCO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r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,1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5,1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0" y="597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6553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0" y="380880"/>
          <a:ext cx="9144000" cy="6208920"/>
        </p:xfrm>
        <a:graphic>
          <a:graphicData uri="http://schemas.openxmlformats.org/drawingml/2006/table">
            <a:tbl>
              <a:tblPr/>
              <a:tblGrid>
                <a:gridCol w="1671480"/>
                <a:gridCol w="2095560"/>
                <a:gridCol w="1575000"/>
                <a:gridCol w="2174760"/>
                <a:gridCol w="1627200"/>
              </a:tblGrid>
              <a:tr h="44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urbo expa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BCH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urbo expa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8,8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78,8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-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4,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34,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orage T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6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orage t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loating ro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6,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11,4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af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I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ouble wall chemical containment pi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9,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89,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83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ves and eyewash 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inless steel valves and eyewash 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7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e and al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e and leakage alarm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1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orage fac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ghting protection storage fac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6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6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Equipment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43,969,5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Installe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97,862,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Capital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87,862,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0" y="0"/>
          <a:ext cx="9144000" cy="6324120"/>
        </p:xfrm>
        <a:graphic>
          <a:graphicData uri="http://schemas.openxmlformats.org/drawingml/2006/table">
            <a:tbl>
              <a:tblPr/>
              <a:tblGrid>
                <a:gridCol w="4629240"/>
                <a:gridCol w="4514760"/>
              </a:tblGrid>
              <a:tr h="75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erating and Utilities Economic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able 1.2: Cost of plant operation and ut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st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nual Co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</a:tr>
              <a:tr h="39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stocks (raw material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9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y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2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ke-up feed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364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aly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,155,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3,019,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t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i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2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oling water, 95°F,50p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7,769,8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eam generation,327.8°F,100p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9,211,6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39,481,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erations (labor-rela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rect labor w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76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rect salar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8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0" y="63244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64008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d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52280" y="6324480"/>
            <a:ext cx="8991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operty insurance is 0.5% of annual plant cost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operty tax is 2% of annual plant cost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0"/>
          <a:ext cx="9143640" cy="6248160"/>
        </p:xfrm>
        <a:graphic>
          <a:graphicData uri="http://schemas.openxmlformats.org/drawingml/2006/table">
            <a:tbl>
              <a:tblPr/>
              <a:tblGrid>
                <a:gridCol w="4629600"/>
                <a:gridCol w="4514040"/>
              </a:tblGrid>
              <a:tr h="4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utside legal assista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coun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4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rol labor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7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,31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surance &amp; benefits including va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90,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axes (fed/state, workman’s comp et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88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lant maintenance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39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480,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perty Taxes and Insu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,253,3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st of manufa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57,885,6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preciation (annual plant lif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0,834,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56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Methanol Product  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28,245,3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828800" y="0"/>
          <a:ext cx="7315200" cy="6818400"/>
        </p:xfrm>
        <a:graphic>
          <a:graphicData uri="http://schemas.openxmlformats.org/drawingml/2006/table">
            <a:tbl>
              <a:tblPr/>
              <a:tblGrid>
                <a:gridCol w="3817800"/>
                <a:gridCol w="3497400"/>
              </a:tblGrid>
              <a:tr h="762480">
                <a:tc gridSpan="2">
                  <a:txBody>
                    <a:bodyPr lIns="31680" rIns="31680" tIns="43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tegorized annu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e 1.3: factor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31680" rIns="31680" tIns="43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st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ypical factor in American engineering un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0ccb0"/>
                    </a:solidFill>
                  </a:tcPr>
                </a:tc>
              </a:tr>
              <a:tr h="28440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t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28440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eam, 100ps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8.14/1000l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28440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oling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12/1000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28440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ectri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076/KW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856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ste trea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3.00/1000l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28440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31f20"/>
                          </a:solidFill>
                          <a:latin typeface="Calibri"/>
                          <a:ea typeface="Calibri"/>
                        </a:rPr>
                        <a:t>KATALCO 51-8  catalyst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46.00/l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29556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perations (labor-rela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29520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perating lab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20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29520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per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 of operating lab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892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bor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% of operating lab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0780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% of cap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892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preci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aight-line deprec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856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x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892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ffective US federal tax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892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ed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856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ght gas by-product cred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.50/million BTU HH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7480"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gher alcohols by-produ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31680" rIns="31680" tIns="432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12/l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PROFILE FOR INVESTORS</a:t>
            </a:r>
            <a:endParaRPr b="0" lang="en-US" sz="2800" spc="-1" strike="noStrike">
              <a:solidFill>
                <a:srgbClr val="676a55"/>
              </a:solidFill>
              <a:latin typeface="Century Schoolbook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905120" y="609480"/>
          <a:ext cx="7086600" cy="6070680"/>
        </p:xfrm>
        <a:graphic>
          <a:graphicData uri="http://schemas.openxmlformats.org/drawingml/2006/table">
            <a:tbl>
              <a:tblPr/>
              <a:tblGrid>
                <a:gridCol w="7086600"/>
              </a:tblGrid>
              <a:tr h="6070680">
                <a:tc>
                  <a:txBody>
                    <a:bodyPr lIns="42120" rIns="42120" tIns="5760" bIns="0" anchor="ctr">
                      <a:noAutofit/>
                    </a:bodyPr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PV = 446,936,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IR = 36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tection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Long term methanol selling contract with large creditworthy U.S Corporat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iance with Delta group. Long term syngas supply contract with fixed price to meet contractual undertaking between Windy City Methanol and Delt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pendent evaluation by more than one geological consulting firm to ensure plant construction area is safe for production of flammable produc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re specialized management personnel with extraordinary methanol marketing experienc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ve business interruption insurance to pay losses incurred due to plant failure or natural disast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sure all critical permits issued prior to plant construct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pendent analysis for the technology being used in plant desig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72880" indent="-2728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tain high-quality legal advice.  Have devised workable dispute settlement mechanism in plac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42120" marR="42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Solutions to questions from previous presentation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7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1.Cost of synga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2.Assumption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-Mostly removed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-Reactor has more reaction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-Conversion/selectivity set for the reaction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3.Distillation pressure and drop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-Pressure adjusted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-Two column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-by product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4.Costs for equipment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5.Depriciation cost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Agenda 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sign Ba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F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ow Sheet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nergy Sinks/Loa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sting/Siz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Improvements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d more reactors to simulate quench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e membrane separators to purge off excess gas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 water tubes to cool react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sensitivity analysis to find out whether turbo expanders/heat exchangers are cost effec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rease Methanol pur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Questions??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2286000"/>
            <a:ext cx="91504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Design Basis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e the syngas provided by group Delta to synthesize Methan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lant located in Chicago because of MS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300TPD syngas to produce 1600 TPD Methanol at a purity of 99.2 wt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hemistry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+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→ CO +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∆Hrxn = 17694 Btu/lbmol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onversion: 0.1 of 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O + 2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→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H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∆Hrxn = 39037 Btu/lbmol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onversion: 0.4 of CO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2CO +4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→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H +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∆Hrxn = 147033 Btu/lbmol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onversion: 0.01 of CO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4CO +8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→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H + 3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∆Hrxn = 319862 Btu/lbmo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onversion : 0.005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Process Flow Diagram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0392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372280" cy="3095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0880" y="3809880"/>
            <a:ext cx="815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 exchanger: 45000 lb/hr inlet at 70F outlet 1090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or: Pressure 1200 psi Temperature 518 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bo expander: Pressure drop of 452 ps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"/>
          <p:cNvSpPr/>
          <p:nvPr/>
        </p:nvSpPr>
        <p:spPr>
          <a:xfrm>
            <a:off x="2819520" y="152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anol Produ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5029200" cy="3949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9092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anol purifi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46483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4267080"/>
            <a:ext cx="8229600" cy="23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:  648psi, 118ºF, separates 97% of  CO, 100%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75%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ve: Reduces pressure from 648psi to 31ps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1: Separates ~100% CO,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2: Separates water, methanol, and higher alcohols to obtain 99.2% pure methano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bo Expander 2: Pressure drop of 16.3ps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8896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Flow Shee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287000" y="4061880"/>
            <a:ext cx="5807160" cy="18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Century Schoolbook"/>
            </a:endParaRPr>
          </a:p>
        </p:txBody>
      </p:sp>
      <p:pic>
        <p:nvPicPr>
          <p:cNvPr id="217" name="Picture 2" descr="C:\Users\pd\Desktop\Untitled.jpg"/>
          <p:cNvPicPr/>
          <p:nvPr/>
        </p:nvPicPr>
        <p:blipFill>
          <a:blip r:embed="rId1"/>
          <a:stretch/>
        </p:blipFill>
        <p:spPr>
          <a:xfrm>
            <a:off x="76320" y="1752480"/>
            <a:ext cx="8915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0:16:00Z</dcterms:created>
  <dc:creator>Linda</dc:creator>
  <dc:description/>
  <dc:language>en-US</dc:language>
  <cp:lastModifiedBy>Nisant</cp:lastModifiedBy>
  <dcterms:modified xsi:type="dcterms:W3CDTF">2011-03-21T19:50:48Z</dcterms:modified>
  <cp:revision>77</cp:revision>
  <dc:subject/>
  <dc:title>Slide 1</dc:title>
</cp:coreProperties>
</file>